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ACB940-8B7A-4325-BA92-0757A0BC16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9D342E-B80B-4E66-BF99-2538B4B3F5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9C46B8-4FB3-4ACB-9446-18EA6C8997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4D6DBB-584C-4A79-8B9A-A968919053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9E4C7C-A5D6-4CFB-9688-38456CF5C7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103C46-CE34-4AEA-B355-DDD5762BD0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3BA8A2-E02C-4F2B-9E28-3F1003CBED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522754-C221-467F-BDF7-CD44E9DEA9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4D9C4C-6DBD-463B-A08A-D85B6CFC56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BE33F6-ECC6-4F5B-9E61-6DA7723470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654BDB-B399-4B7E-B676-7E2FA7DF7C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222F91-4FA4-4881-BCBF-69D3C641D4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0F4396-D95F-4E19-ABDD-C3A29FF6AE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9D5824-D89A-4970-ACE5-ABA1E8DE0F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68CFA9-72BE-4756-A1E6-900B879332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D70022-D2BC-42B1-9DFC-4B019C6BE0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1ADC7C-F497-4B1E-920D-3D53654B53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0152C94-C60A-4DCE-B482-EAE20A1BABC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1B9791-3A00-4461-A6E7-2B12298C3A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2F5C3D-A076-4385-81AF-9D7B32B1E2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5986FA-544C-4F1B-8984-442F9DE340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A033F2-B3E9-4A8B-9AD1-056517EE87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A50307-CA3A-4171-9C5C-57C04BBEC5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433A86-68CA-4CC2-BF6D-BFA768DDB9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D2D227-7ED2-497B-9AA3-DF822795C2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1AE450-1515-42D6-861C-9DF13B799B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FE85D1-5BE1-4F51-874A-83F81BF884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496B555-C48F-4765-BDC6-17C4618F63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BB088D1-ACF6-438B-8D52-033287EB727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5F665E8-FB78-48E7-BDA4-20F72DCEDF6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DC78277-DFBA-4BC3-A243-9AAF64A1DEA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1E9B2F-0284-4BA0-9930-61BBCA83FA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0D2FC72-9A54-4964-8F0A-FEE1B800B6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DD29B6-1485-410E-B315-AE6FD92A6D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BB48779-06CA-4430-85E3-F261E6F101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64B7B57-4E7E-43E1-A21D-B7201B16B00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497B32E-F8EE-4841-9DC3-E544AC4214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D070B1-CE75-4646-89C9-A3FBB976C2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D87908-F297-44BC-BE7F-E077BC137A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765087-CF68-438A-B39A-E855B84E4D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9F2FE4C-A257-43BF-AEB5-498F18DDE3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B5DF9F0-4CC6-4055-B715-C2E6F9A9C7B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F9CBEF4-B282-4020-8CA7-805FFB2437E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77630A-6303-4654-97E9-E24DFC51C1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1608CE-F306-4C72-97DF-82ADC6EB6A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18A6BB-6129-4F66-89A0-77D29F7B85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67200F-D152-4CE4-BAA0-82C596490A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13315-462E-4577-B6F2-C0803F0348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32865-2A0D-41EB-A502-6213A8A9EC07}"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14" name="Picture 8" descr="LOGO"/>
          <p:cNvPicPr/>
          <p:nvPr/>
        </p:nvPicPr>
        <p:blipFill>
          <a:blip r:embed="rId5"/>
          <a:stretch/>
        </p:blipFill>
        <p:spPr>
          <a:xfrm>
            <a:off x="2000160" y="0"/>
            <a:ext cx="4857840" cy="116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60" name="Picture 8" descr="LOGO"/>
          <p:cNvPicPr/>
          <p:nvPr/>
        </p:nvPicPr>
        <p:blipFill>
          <a:blip r:embed="rId5"/>
          <a:stretch/>
        </p:blipFill>
        <p:spPr>
          <a:xfrm>
            <a:off x="2000160" y="0"/>
            <a:ext cx="4857840" cy="1163520"/>
          </a:xfrm>
          <a:prstGeom prst="rect">
            <a:avLst/>
          </a:prstGeom>
          <a:ln w="0">
            <a:noFill/>
          </a:ln>
        </p:spPr>
      </p:pic>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Arial"/>
              </a:rPr>
              <a:t>&lt;date/time&gt;</a:t>
            </a:r>
            <a:endParaRPr b="0" lang="en-US" sz="1200" spc="-1" strike="noStrike">
              <a:solidFill>
                <a:srgbClr val="000000"/>
              </a:solidFill>
              <a:latin typeface="Arial"/>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C2E5C-7016-4877-AEC0-E92DFB454294}"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111" name="Picture 8" descr="LOGO"/>
          <p:cNvPicPr/>
          <p:nvPr/>
        </p:nvPicPr>
        <p:blipFill>
          <a:blip r:embed="rId5"/>
          <a:stretch/>
        </p:blipFill>
        <p:spPr>
          <a:xfrm>
            <a:off x="2000160" y="0"/>
            <a:ext cx="4857840" cy="1163520"/>
          </a:xfrm>
          <a:prstGeom prst="rect">
            <a:avLst/>
          </a:prstGeom>
          <a:ln w="0">
            <a:noFill/>
          </a:ln>
        </p:spPr>
      </p:pic>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Arial"/>
              </a:rPr>
              <a:t>&lt;date/time&gt;</a:t>
            </a:r>
            <a:endParaRPr b="0" lang="en-US" sz="1200" spc="-1" strike="noStrike">
              <a:solidFill>
                <a:srgbClr val="000000"/>
              </a:solidFill>
              <a:latin typeface="Arial"/>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AADD8-5A82-426B-ABA6-E1D6239083F0}"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lt;date/time&gt;</a:t>
            </a:r>
            <a:endParaRPr b="0" lang="en-US" sz="1200" spc="-1" strike="noStrike">
              <a:solidFill>
                <a:srgbClr val="000000"/>
              </a:solidFill>
              <a:latin typeface="Arial"/>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A9D36-5C32-4905-AFB2-03EDDF0D068F}"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Интегрисане академске студије стоматологије</a:t>
            </a:r>
            <a:endParaRPr b="0" lang="en-US" sz="2800" spc="-1" strike="noStrike">
              <a:solidFill>
                <a:srgbClr val="04617b"/>
              </a:solidFill>
              <a:latin typeface="Calibri"/>
            </a:endParaRPr>
          </a:p>
        </p:txBody>
      </p:sp>
      <p:sp>
        <p:nvSpPr>
          <p:cNvPr id="19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Предмет: Енглески језик</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Предавач: Душица Лазић</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539640" y="1773000"/>
            <a:ext cx="8229600" cy="4389480"/>
          </a:xfrm>
          <a:prstGeom prst="rect">
            <a:avLst/>
          </a:prstGeom>
          <a:noFill/>
          <a:ln w="0">
            <a:noFill/>
          </a:ln>
        </p:spPr>
        <p:txBody>
          <a:bodyPr anchor="t">
            <a:normAutofit fontScale="95000"/>
          </a:bodyPr>
          <a:p>
            <a:pPr marL="259200" indent="32580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ea typeface="Times New Roman"/>
              </a:rPr>
              <a:t>Skeletal system – the word skeleton comes from the Greek word skeletos, meaning dried up. The parts of the skeletal system – the bones and other structures that make up the joints of the skeleton are anything but dried up. Strong yet light, the skeletal system is made of living material, with networks of blood vessels running throughout. The system protects body organs, supports the body, and provides attachment points for muscles to enable body movement. All bones act as storage sites for minerals such as calcium and phosphorus, and certain bones also produce blood cells. All humans are born with over 300 bones. As an individual ages, certain bones fuse or join together, thereby reducing the number.............The rest of the lesson may be found in the text book “English in Dentistry”, by Natasa Milosavljevic</a:t>
            </a:r>
            <a:endParaRPr b="0" lang="en-US" sz="2100" spc="-1" strike="noStrike">
              <a:solidFill>
                <a:srgbClr val="000000"/>
              </a:solidFill>
              <a:latin typeface="Constantia"/>
            </a:endParaRPr>
          </a:p>
        </p:txBody>
      </p:sp>
      <p:sp>
        <p:nvSpPr>
          <p:cNvPr id="2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Organs and Systems</a:t>
            </a:r>
            <a:endParaRPr b="0" lang="en-US" sz="28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Words to remember:</a:t>
            </a:r>
            <a:endParaRPr b="0" lang="en-US" sz="28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400" spc="-1" strike="noStrike">
                <a:solidFill>
                  <a:srgbClr val="000000"/>
                </a:solidFill>
                <a:latin typeface="Constantia"/>
              </a:rPr>
              <a:t>Epiphysis</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Cancellous</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irdle</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ppendage</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andible</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Zygomatic</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axilla</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Ossification</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Periosteum</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Talking Points:</a:t>
            </a:r>
            <a:endParaRPr b="0" lang="en-US" sz="28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MAIN PARTS OF THE SKELETAL SYSTEM</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MAIN PARTS OF THE MUSCULAR SYSTEM</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MAIN PARTS OF THE CARDIOVASULAR SYSTEM</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MAIN PARTS OF THE ENDOCRINE SYSTEM</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MAIN PARTS OF THE NERVOUS SYSTEM</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Complete the following statements:</a:t>
            </a:r>
            <a:endParaRPr b="0" lang="en-US" sz="28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axial skeleton includes.....................................................</a:t>
            </a:r>
            <a:endParaRPr b="0" lang="en-US" sz="24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appendicular skeleton consists of....................................</a:t>
            </a:r>
            <a:endParaRPr b="0" lang="en-US" sz="24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igaments and tendons are......................................................</a:t>
            </a:r>
            <a:endParaRPr b="0" lang="en-US" sz="24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Joints are....................................................................................</a:t>
            </a:r>
            <a:endParaRPr b="0" lang="en-US" sz="24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mandible is........................................................................</a:t>
            </a:r>
            <a:endParaRPr b="0" lang="en-US" sz="24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maxilla is............................................................................</a:t>
            </a:r>
            <a:endParaRPr b="0" lang="en-US" sz="24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Suggest explanations for the following idiomatic expressions:</a:t>
            </a:r>
            <a:endParaRPr b="0" lang="en-US" sz="28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 bone of contention.............................................................</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one idle..................................................................................</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one up on something............................................................</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ake no bones about (doing) something..............................</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bare bones of something..................................................</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Provide the adjective form for the following nouns:</a:t>
            </a:r>
            <a:endParaRPr b="0" lang="en-US" sz="2800" spc="-1" strike="noStrike">
              <a:solidFill>
                <a:srgbClr val="04617b"/>
              </a:solidFill>
              <a:latin typeface="Calibri"/>
            </a:endParaRPr>
          </a:p>
        </p:txBody>
      </p:sp>
      <p:sp>
        <p:nvSpPr>
          <p:cNvPr id="211" name=""/>
          <p:cNvSpPr txBox="1"/>
          <p:nvPr/>
        </p:nvSpPr>
        <p:spPr>
          <a:xfrm>
            <a:off x="457200" y="1934640"/>
            <a:ext cx="8229600" cy="4389480"/>
          </a:xfrm>
          <a:prstGeom prst="rect">
            <a:avLst/>
          </a:prstGeom>
          <a:noFill/>
          <a:ln w="0">
            <a:noFill/>
          </a:ln>
        </p:spPr>
        <p:txBody>
          <a:bodyPr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Muscle</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Skeleton</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Pubis</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Bone</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Pelvis</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Nucleus</a:t>
            </a:r>
            <a:endParaRPr b="0" lang="en-US" sz="2200" spc="-1" strike="noStrike">
              <a:solidFill>
                <a:srgbClr val="000000"/>
              </a:solidFill>
              <a:latin typeface="Constantia"/>
            </a:endParaRPr>
          </a:p>
          <a:p>
            <a:pPr marL="27288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Translate into English:</a:t>
            </a:r>
            <a:endParaRPr b="0" lang="en-US" sz="28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fontScale="92000"/>
          </a:bodyPr>
          <a:p>
            <a:pPr marL="250920" indent="-250920" algn="just">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Мишићни систем заједно са скелетом чини апарат за кретање и учествује у многим физичким процесима-исхрани, дисању и циркулацији крви. Мишићи се за кости спајају сноповима везивних влакана-тетивама. Веза са нервним системом је остварена тако што је сваки мишић инервисан посебним нервом. Тако један мишић може да врши само једну врсту покрета па су због тога мишићи удружени у функционалне групе које делују антагонистички. Осим одређених кожних мишића који потичу од ектодерма, сви остали су изодермалног порекла.</a:t>
            </a:r>
            <a:endParaRPr b="0" lang="en-US" sz="2000" spc="-1" strike="noStrike">
              <a:solidFill>
                <a:srgbClr val="000000"/>
              </a:solidFill>
              <a:latin typeface="Constantia"/>
            </a:endParaRPr>
          </a:p>
          <a:p>
            <a:pPr marL="250920" indent="-250920" algn="just">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Мускулатура кичмењака састоји се од глатких и попречно-пругастих мишићних влакана. Попречно-пругаста влакна изграђују мишиће телесног зида, главе, удова, очних мишића и дијафрагме. Глатка влакна граде мишиће унутрашњих органа, црева, бубрежних одвода, зида крвних судова, итд.</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19:01:08Z</dcterms:created>
  <dc:creator>User</dc:creator>
  <dc:description/>
  <dc:language>en-US</dc:language>
  <cp:lastModifiedBy>Dusica Lazic</cp:lastModifiedBy>
  <dcterms:modified xsi:type="dcterms:W3CDTF">2014-02-08T20:25:29Z</dcterms:modified>
  <cp:revision>45</cp:revision>
  <dc:subject/>
  <dc:title>Slide 1</dc:title>
</cp:coreProperties>
</file>